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88D-5A3F-455A-AA3F-EF2A760A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382C-7678-49BE-BF1A-B232BA12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00C2-1A48-4B5A-9F4F-BAEC2B9C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F02-B6FC-4D14-90D2-AB23D215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onic compound such as sodium chloride is placed in water, water molecules surround and separate the positive and negativ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6E3-A74C-4401-ABC0-A5907003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C1E-BCCC-46F6-9C56-11CE6AC8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D5F-1EC3-419B-A110-665D4E41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597-119F-47F7-A067-3510B3F7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ncentration of 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ons determines whether solutions are acidic or basi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591-B143-4B4B-8CA9-98A6FF60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861-9E02-42E3-AABF-4455BA4D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12A9-69BC-4661-B098-384B9DF1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7DD6-6D12-44B5-BEB3-1A11E0B7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30A-F51E-4129-B08B-5A13D705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3E9-1187-49C7-A288-248E85C4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D1D-1F98-40FE-BDAF-C27CBAC7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3252-4EDE-49F6-A9A5-CB68C6D14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58AD-3962-48DE-9597-A50CA21E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84AB-0B28-4CC3-83CE-6A7EAEF8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65B-B8B6-4AD7-9CCD-B465482A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F70A-955F-4090-AA05-52E389E0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193-49FE-46B6-B6DD-CA5CAD7E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unequal sharing of electrons causes the water molecule to be pol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hydrogen end of the molecule is slightly positive and the oxygen end is slightly ne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7775-219F-4547-A1FA-F848D598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784-18FD-480C-B1AB-42BD9E00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2FE-BCE9-4F63-BD1E-3EA8E5032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54E-BCE1-4AAE-81AE-C819A088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ADA2-AC01-4AB9-B61D-F2D525E3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0CF-E609-41F2-B85E-D452B037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695-8391-4291-BA9F-0B920EA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498-A58E-4BED-9C07-702A6CCC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254F-D1E4-499E-AB43-7054B709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6435-7775-4F48-A8E7-7D552166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8A9-5D88-43F2-AD38-C61AAB6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C466-ECE0-4FE0-80E3-B775428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4D6-C123-4A3F-83E4-F09948A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A919-1BE6-4115-A54D-A3EA74D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EBC-CB12-4A95-B673-A59DD51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804C-519D-46E8-9E08-2C2DB8E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4DE-C8CF-4595-8B7E-5691B45C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42B-64DF-4A03-BDE6-87EB55F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B43E-083E-42DC-9504-7B066A7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A176-EF9A-4B76-825D-3D0C629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2847-6361-4FF3-AA3F-C6DDD365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C15-5DA1-46DF-8200-56CCE22E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7CB8-0694-497C-9F6D-828D2ED5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5256-C836-4820-82E6-B34CEB06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5C45-0EA7-463F-89F2-11254077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2346-53A6-453A-B7D4-BB480CE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6FBC-646F-47BD-B753-F8147CA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9ED-D0BD-4E7D-A7F1-732749E7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5579-58AB-498A-A7CB-379E8DF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7C56-4870-4492-B7DF-6DD7B71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06BF-EF01-48FE-8637-A72F3C9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DAC9-B010-4BD4-B19E-F8361A1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A71D-93F9-4DE1-A762-83F32416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3D82-D733-47C5-A6F2-111B7465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4DFA-3C32-4545-B757-8309EF09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179D-851A-4A1B-8B93-F52150F6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6855-C695-4DCF-8B8A-7156E38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220D-9567-423A-B0C5-E45B0327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B6F-8796-474E-9A54-239169FB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07F1-3349-41C3-96D7-54522B0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7FF56-6699-4FAE-92F1-824EA0C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8792-6369-4013-8F04-C2A6F61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D5E4-F040-494F-A7D8-52D1E06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6F49-11FE-438D-930A-5F4D1BC7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2011-7BD4-422C-BD1D-314F9F43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57BE-35A6-4B45-B2E0-D1D6F55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21F9-7FAF-4D3F-AC18-44A46D30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EA21-CD5C-4086-B044-CCB4CC0C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33CC1-8688-430F-AF10-268D525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026-DD3E-42AC-BDA8-93196F40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471E-0796-4C70-B0D3-51A2D3F6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88265-4112-4753-BE62-0D1F726F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B12A-D6EB-4CA7-848B-700D76C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0B03-C676-4E46-A67E-8867A46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95B7E-0298-41E7-9165-767B75D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153EF-E6C3-4147-A55A-369E5F1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141A-FED1-40DD-8745-DCF2606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509F-A1C5-4502-BF45-4C2F980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16F4-C001-4CE0-BA65-6BD1FA6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4B0C-BEA2-4031-81AF-94ACB223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27C-2484-4157-ADF6-D41EDA52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CC5D3-3342-414D-8716-8B5AFFC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3489-A827-4DD3-ACF3-1ED668C1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06A3-7F7A-4EA5-B790-1C7383F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BC43-A5F0-4788-BC88-FA7051F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3B774-A1EA-44BC-A933-FDA1033E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CE99-C019-4C70-9113-9FECAE91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BC07-1F20-483F-8E4B-372E7135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3A8D-A1D7-475C-8628-4E0243D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D3A0-7740-4A5C-950E-3D5C646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BE3C-6F6E-4FFE-A6AC-306DA6E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148-0AFA-4F21-958E-CF88159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34DF-A2C9-400F-A896-CA1505B0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F56C-11A1-43EA-85B9-808BA2C1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1D4A-4C2F-46C0-B697-0F9057F4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6D3B2-5FA9-4014-9550-4D5EC7F3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EE01-DFCC-4369-8DC4-8A3039C6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E560-26A3-45D5-9EC1-5825A98D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9AB2F-231E-4B2E-BC6F-7E97D77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802B-F71B-42E3-9716-91FE619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29C51-8362-4ECA-B07C-2378FCAD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49A5-331F-41AC-B3C5-AA8FDB8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C6F-2271-4728-923B-5B6511EC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471E-7956-46D0-BB07-1E01C7A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FAAC-A56F-4AE8-A236-A5A4094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091E-FE86-47E0-B04D-41B2B402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0D675-B6E6-46E8-BB28-86E3DEFE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443B-B3FE-43F2-B9B0-9760753F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FE99F-511D-4A63-A0E0-43E8580C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30EF4-875A-4BA3-A672-1C4CE67E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5B98C-90F9-4426-80C9-23D5C2E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8061-DF26-47EF-AE6E-01177A5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EEBA-6C43-4862-A2C4-8E81D09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AD8-83B7-4BCE-B462-7802DE6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C052-96C2-4965-A949-B46C8A3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44B49-B559-4690-9306-755723BA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56C4-0BDB-44E5-9F23-74C62035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65D4B-D439-4FFA-8F4E-507B81D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BE03-1136-4C7C-A891-3A69EE3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2D33-81E9-41E5-9433-A04529F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B7E13-D489-47FA-A26F-04A2A5A9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Aft>
                <a:spcPts val="2500"/>
              </a:spcAft>
              <a:buClr>
                <a:srgbClr val="a5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 indent="9324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 indent="281880"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FE1-3248-4DBF-B849-4C25548BF2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72D6-E35B-4168-9A68-4810875003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8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spcBef>
                <a:spcPts val="4000"/>
              </a:spcBef>
              <a:spcAft>
                <a:spcPts val="2999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 indent="-381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 indent="-1526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key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7" name="Picture 29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2693-51C2-43C9-B839-CBB92631F8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 indent="3286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7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E750-1002-4CBF-A508-51981E8DB1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utine copy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3427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3652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89000" indent="324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78400" y="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2 Properties of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6" descr="arrow"/>
          <p:cNvPicPr/>
          <p:nvPr/>
        </p:nvPicPr>
        <p:blipFill>
          <a:blip r:embed="rId4"/>
          <a:stretch/>
        </p:blipFill>
        <p:spPr>
          <a:xfrm>
            <a:off x="44593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357-AA4F-4D0C-9EBA-EACB669023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14B8-4E0B-4F4A-A849-5C0DD3DB7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33080" indent="-446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531360" indent="24552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165680" indent="-38844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7" descr="section quiz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QT_icon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9"/>
          <p:cNvSpPr/>
          <p:nvPr/>
        </p:nvSpPr>
        <p:spPr>
          <a:xfrm>
            <a:off x="401724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0" descr="sectionQUIZ_BAR copy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6EA9-EFB7-46D5-B0C9-7DBF8728FF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2001"/>
              </a:spcAft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531360" indent="-648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15920" indent="-38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350440" indent="-123624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4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808200"/>
                <a:tab algn="l" pos="131112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7" descr="sectionQUIZ_BAR copy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7C1F-99A8-4B2A-A732-BCE789F08E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4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21840" y="274680"/>
            <a:ext cx="7464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64" name="Picture 11" descr="biobookcover"/>
          <p:cNvPicPr/>
          <p:nvPr/>
        </p:nvPicPr>
        <p:blipFill>
          <a:blip r:embed="rId1"/>
          <a:srcRect l="0" t="2423" r="0" b="0"/>
          <a:stretch/>
        </p:blipFill>
        <p:spPr>
          <a:xfrm>
            <a:off x="2000160" y="372960"/>
            <a:ext cx="50338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871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Solutions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components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n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the solution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substance that is dissolved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substance in which the solu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s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0" y="4457880"/>
            <a:ext cx="3473280" cy="2400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5075280" y="378468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5920" y="76644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rystal of table salt is placed in warm water, sodium and chloride ions are attracted to the polar water molecules.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grpSp>
        <p:nvGrpSpPr>
          <p:cNvPr id="507" name="Group 11"/>
          <p:cNvGrpSpPr/>
          <p:nvPr/>
        </p:nvGrpSpPr>
        <p:grpSpPr>
          <a:xfrm>
            <a:off x="255600" y="2343240"/>
            <a:ext cx="8888400" cy="4514760"/>
            <a:chOff x="255600" y="2343240"/>
            <a:chExt cx="8888400" cy="4514760"/>
          </a:xfrm>
        </p:grpSpPr>
        <p:pic>
          <p:nvPicPr>
            <p:cNvPr id="508" name="Picture 4" descr="sb4860f1"/>
            <p:cNvPicPr/>
            <p:nvPr/>
          </p:nvPicPr>
          <p:blipFill>
            <a:blip r:embed="rId1"/>
            <a:stretch/>
          </p:blipFill>
          <p:spPr>
            <a:xfrm>
              <a:off x="682200" y="2343240"/>
              <a:ext cx="82861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"/>
            <p:cNvSpPr/>
            <p:nvPr/>
          </p:nvSpPr>
          <p:spPr>
            <a:xfrm>
              <a:off x="8263440" y="4344840"/>
              <a:ext cx="880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6"/>
            <p:cNvSpPr/>
            <p:nvPr/>
          </p:nvSpPr>
          <p:spPr>
            <a:xfrm>
              <a:off x="4160160" y="3766680"/>
              <a:ext cx="880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7"/>
            <p:cNvSpPr/>
            <p:nvPr/>
          </p:nvSpPr>
          <p:spPr>
            <a:xfrm>
              <a:off x="4364640" y="3261600"/>
              <a:ext cx="733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8"/>
            <p:cNvSpPr/>
            <p:nvPr/>
          </p:nvSpPr>
          <p:spPr>
            <a:xfrm>
              <a:off x="419400" y="3499200"/>
              <a:ext cx="774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9"/>
            <p:cNvSpPr/>
            <p:nvPr/>
          </p:nvSpPr>
          <p:spPr>
            <a:xfrm>
              <a:off x="255600" y="5181840"/>
              <a:ext cx="1094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0"/>
            <p:cNvSpPr/>
            <p:nvPr/>
          </p:nvSpPr>
          <p:spPr>
            <a:xfrm>
              <a:off x="4021200" y="5006160"/>
              <a:ext cx="107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Suspensions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teria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placed in water but separate into pieces so small that they do not settle out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4924440" y="4029120"/>
            <a:ext cx="4219560" cy="2828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"/>
          <p:cNvPicPr/>
          <p:nvPr/>
        </p:nvPicPr>
        <p:blipFill>
          <a:blip r:embed="rId2"/>
          <a:stretch/>
        </p:blipFill>
        <p:spPr>
          <a:xfrm>
            <a:off x="3087720" y="4141800"/>
            <a:ext cx="1778040" cy="271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3"/>
          <a:stretch/>
        </p:blipFill>
        <p:spPr>
          <a:xfrm>
            <a:off x="0" y="3421080"/>
            <a:ext cx="229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ter molecule is neutral, but can react to form hydrogen and hydroxide 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0" y="4057560"/>
            <a:ext cx="28954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br>
              <a:rPr sz="1800"/>
            </a:b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The pH scale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devised a measurement system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o indicate th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 scale ranges from 0 to 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117440" y="3789360"/>
            <a:ext cx="67406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3772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pH of 7, th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 eq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760280" y="42084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9" descr=""/>
          <p:cNvPicPr/>
          <p:nvPr/>
        </p:nvPicPr>
        <p:blipFill>
          <a:blip r:embed="rId1"/>
          <a:stretch/>
        </p:blipFill>
        <p:spPr>
          <a:xfrm>
            <a:off x="4406760" y="773280"/>
            <a:ext cx="3048120" cy="57434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20"/>
          <p:cNvSpPr/>
          <p:nvPr/>
        </p:nvSpPr>
        <p:spPr>
          <a:xfrm>
            <a:off x="6006960" y="878040"/>
            <a:ext cx="1511280" cy="51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7529760" y="328284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bloo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7554600" y="3686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6008040" y="2852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5929200" y="3906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rainf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6"/>
          <p:cNvSpPr/>
          <p:nvPr/>
        </p:nvSpPr>
        <p:spPr>
          <a:xfrm>
            <a:off x="5830920" y="3860640"/>
            <a:ext cx="175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5533920" y="3683160"/>
            <a:ext cx="47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5537160" y="403560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1"/>
          <p:cNvSpPr/>
          <p:nvPr/>
        </p:nvSpPr>
        <p:spPr>
          <a:xfrm>
            <a:off x="5829480" y="3505320"/>
            <a:ext cx="1742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5945760" y="3514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3"/>
          <p:cNvSpPr/>
          <p:nvPr/>
        </p:nvSpPr>
        <p:spPr>
          <a:xfrm>
            <a:off x="5816520" y="307332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5"/>
          <p:cNvSpPr/>
          <p:nvPr/>
        </p:nvSpPr>
        <p:spPr>
          <a:xfrm>
            <a:off x="7792920" y="3962520"/>
            <a:ext cx="392400" cy="392040"/>
          </a:xfrm>
          <a:custGeom>
            <a:avLst/>
            <a:gdLst>
              <a:gd name="textAreaLeft" fmla="*/ 0 w 392400"/>
              <a:gd name="textAreaRight" fmla="*/ 392760 w 39240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47" h="247">
                <a:moveTo>
                  <a:pt x="247" y="0"/>
                </a:moveTo>
                <a:lnTo>
                  <a:pt x="238" y="165"/>
                </a:lnTo>
                <a:lnTo>
                  <a:pt x="137" y="247"/>
                </a:lnTo>
                <a:lnTo>
                  <a:pt x="37" y="165"/>
                </a:lnTo>
                <a:lnTo>
                  <a:pt x="0" y="55"/>
                </a:lnTo>
                <a:lnTo>
                  <a:pt x="55" y="18"/>
                </a:lnTo>
                <a:lnTo>
                  <a:pt x="2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48" name="Picture 4" descr="key"/>
          <p:cNvPicPr/>
          <p:nvPr/>
        </p:nvPicPr>
        <p:blipFill>
          <a:blip r:embed="rId1"/>
          <a:stretch/>
        </p:blipFill>
        <p:spPr>
          <a:xfrm>
            <a:off x="638280" y="321156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8"/>
          <p:cNvSpPr/>
          <p:nvPr/>
        </p:nvSpPr>
        <p:spPr>
          <a:xfrm>
            <a:off x="515880" y="2290680"/>
            <a:ext cx="87156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502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id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compound that form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in solution. 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4633920" y="2651040"/>
            <a:ext cx="3578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54" name="Picture 4" descr="key"/>
          <p:cNvPicPr/>
          <p:nvPr/>
        </p:nvPicPr>
        <p:blipFill>
          <a:blip r:embed="rId1"/>
          <a:stretch/>
        </p:blipFill>
        <p:spPr>
          <a:xfrm>
            <a:off x="665280" y="341784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"/>
          <p:cNvSpPr/>
          <p:nvPr/>
        </p:nvSpPr>
        <p:spPr>
          <a:xfrm>
            <a:off x="533520" y="2349360"/>
            <a:ext cx="825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4502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2200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Bas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4000" indent="0">
              <a:spcBef>
                <a:spcPts val="2200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801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pound that produces hydroxide ions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) in solut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. 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527040" y="3270240"/>
            <a:ext cx="93672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9" descr="key"/>
          <p:cNvPicPr/>
          <p:nvPr/>
        </p:nvPicPr>
        <p:blipFill>
          <a:blip r:embed="rId2"/>
          <a:stretch/>
        </p:blipFill>
        <p:spPr>
          <a:xfrm>
            <a:off x="773280" y="3755880"/>
            <a:ext cx="672840" cy="4352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"/>
          <p:cNvPicPr/>
          <p:nvPr/>
        </p:nvPicPr>
        <p:blipFill>
          <a:blip r:embed="rId3"/>
          <a:stretch/>
        </p:blipFill>
        <p:spPr>
          <a:xfrm>
            <a:off x="4367160" y="3267000"/>
            <a:ext cx="47768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cids, Bases, and p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96880" y="365040"/>
            <a:ext cx="854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9936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Buffers 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 of the fluids within most cells in the human body must generally be kept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.5 and 7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pH is important for maintain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4984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1963800" y="2022480"/>
            <a:ext cx="491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5181480" y="2652840"/>
            <a:ext cx="288936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731664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-2 Properties of Water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67" name="Picture 11" descr="sb4858f1"/>
          <p:cNvPicPr/>
          <p:nvPr/>
        </p:nvPicPr>
        <p:blipFill>
          <a:blip r:embed="rId1"/>
          <a:stretch/>
        </p:blipFill>
        <p:spPr>
          <a:xfrm>
            <a:off x="1998720" y="1481040"/>
            <a:ext cx="47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lecule in which the charges are unevenly distributed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ve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1"/>
          <p:cNvPicPr/>
          <p:nvPr/>
        </p:nvPicPr>
        <p:blipFill>
          <a:blip r:embed="rId1"/>
          <a:stretch/>
        </p:blipFill>
        <p:spPr>
          <a:xfrm>
            <a:off x="241200" y="1092240"/>
            <a:ext cx="5619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solved substance is calle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2"/>
          <p:cNvPicPr/>
          <p:nvPr/>
        </p:nvPicPr>
        <p:blipFill>
          <a:blip r:embed="rId1"/>
          <a:stretch/>
        </p:blipFill>
        <p:spPr>
          <a:xfrm>
            <a:off x="237960" y="1087560"/>
            <a:ext cx="5860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und that produces hydroxide ions in solution is called a(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3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s between water molecules result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 between water molecu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c attractions between water molecu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ven electron distribution in each wate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bonds in the water molecu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6" descr="4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-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72520" y="1095480"/>
            <a:ext cx="85028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H scale, a value of 2 means that the solution 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concentrations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s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3560" indent="-422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ncentration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pure wat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5"/>
          <p:cNvPicPr/>
          <p:nvPr/>
        </p:nvPicPr>
        <p:blipFill>
          <a:blip r:embed="rId1"/>
          <a:stretch/>
        </p:blipFill>
        <p:spPr>
          <a:xfrm>
            <a:off x="236520" y="108756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D OF S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0" name="Picture 4" descr="key"/>
          <p:cNvPicPr/>
          <p:nvPr/>
        </p:nvPicPr>
        <p:blipFill>
          <a:blip r:embed="rId1"/>
          <a:stretch/>
        </p:blipFill>
        <p:spPr>
          <a:xfrm>
            <a:off x="698400" y="3227400"/>
            <a:ext cx="673200" cy="4348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299880" y="2101680"/>
            <a:ext cx="992520" cy="7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39808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C:\Storage Area\Programs\img018.gif"/>
          <p:cNvPicPr/>
          <p:nvPr/>
        </p:nvPicPr>
        <p:blipFill>
          <a:blip r:embed="rId2"/>
          <a:stretch/>
        </p:blipFill>
        <p:spPr>
          <a:xfrm>
            <a:off x="4824360" y="2673360"/>
            <a:ext cx="3476520" cy="3727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3"/>
          <a:stretch/>
        </p:blipFill>
        <p:spPr>
          <a:xfrm>
            <a:off x="0" y="3868560"/>
            <a:ext cx="39862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7" name="Picture 5" descr="sb4858f1"/>
          <p:cNvPicPr/>
          <p:nvPr/>
        </p:nvPicPr>
        <p:blipFill>
          <a:blip r:embed="rId1"/>
          <a:stretch/>
        </p:blipFill>
        <p:spPr>
          <a:xfrm>
            <a:off x="2216160" y="1057320"/>
            <a:ext cx="4710240" cy="43624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7"/>
          <p:cNvSpPr/>
          <p:nvPr/>
        </p:nvSpPr>
        <p:spPr>
          <a:xfrm>
            <a:off x="835200" y="12351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Molec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ydrogen Bonds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ir partial positive and negative charges, polar molecules can attract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sb4859f1"/>
          <p:cNvPicPr/>
          <p:nvPr/>
        </p:nvPicPr>
        <p:blipFill>
          <a:blip r:embed="rId1"/>
          <a:stretch/>
        </p:blipFill>
        <p:spPr>
          <a:xfrm>
            <a:off x="3873600" y="2919240"/>
            <a:ext cx="386244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029" descr="03_04WaterStrider_UP"/>
          <p:cNvPicPr/>
          <p:nvPr/>
        </p:nvPicPr>
        <p:blipFill>
          <a:blip r:embed="rId1"/>
          <a:stretch/>
        </p:blipFill>
        <p:spPr>
          <a:xfrm>
            <a:off x="2063880" y="2625840"/>
            <a:ext cx="5641920" cy="4232160"/>
          </a:xfrm>
          <a:prstGeom prst="rect">
            <a:avLst/>
          </a:prstGeom>
          <a:ln w="0">
            <a:noFill/>
          </a:ln>
        </p:spPr>
      </p:pic>
      <p:sp>
        <p:nvSpPr>
          <p:cNvPr id="48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traction between molecules of the sam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hydrogen bonding, water is extremely cohe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The Water Molecul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traction between molecules of different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0" y="2111400"/>
            <a:ext cx="5742000" cy="4746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6" descr=""/>
          <p:cNvPicPr/>
          <p:nvPr/>
        </p:nvPicPr>
        <p:blipFill>
          <a:blip r:embed="rId2"/>
          <a:srcRect l="42233" t="0" r="0" b="0"/>
          <a:stretch/>
        </p:blipFill>
        <p:spPr>
          <a:xfrm>
            <a:off x="6226200" y="1684440"/>
            <a:ext cx="2751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aterial composed of two or more elements or compounds that are physically mixed but not chemically comb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4879800" y="3395520"/>
            <a:ext cx="2857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9916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olutions and Suspensions</a:t>
            </a:r>
            <a:br>
              <a:rPr sz="1800"/>
            </a:b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mixtures can be mad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231480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ive Services</cp:lastModifiedBy>
  <dcterms:modified xsi:type="dcterms:W3CDTF">2012-01-05T15:45:46Z</dcterms:modified>
  <cp:revision>17</cp:revision>
  <dc:subject/>
  <dc:title>Biology</dc:title>
</cp:coreProperties>
</file>